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6E4-A998-42A9-944F-24671B19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338-6C2F-4BB5-B984-A1E30E0A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380-28DA-4437-B99D-F73AE677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EA1-6F8C-42A4-9AE7-4D3A953B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F1A-3000-4471-A32F-D41EBAF8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A3F-C665-48D4-922F-2D0667F1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8EB-8474-40EA-8799-8312534C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5C5-A677-47DE-9F70-97CBBE7B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B3C-3743-451F-9252-E5690587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20C-2F51-4C02-9D8F-4F08113E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428-615A-4BCF-BBF5-4CCBE345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BC1-782E-4A67-B21A-674A3D41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605E-AED7-469C-90CF-899D9FCFA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иверзитет у Крагујевц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акултет медицинских нау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новне струковне студије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иох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вна јединиц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Гвожђе и хемоглоб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C:\Users\Radica\Downloads\unlogo.png"/>
          <p:cNvPicPr/>
          <p:nvPr/>
        </p:nvPicPr>
        <p:blipFill>
          <a:blip r:embed="rId1"/>
          <a:stretch/>
        </p:blipFill>
        <p:spPr>
          <a:xfrm>
            <a:off x="457200" y="304920"/>
            <a:ext cx="142884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Radica\Desktop\Logo_FMN_256.png"/>
          <p:cNvPicPr/>
          <p:nvPr/>
        </p:nvPicPr>
        <p:blipFill>
          <a:blip r:embed="rId2"/>
          <a:stretch/>
        </p:blipFill>
        <p:spPr>
          <a:xfrm>
            <a:off x="7070760" y="317520"/>
            <a:ext cx="15606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мопроте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протеини су протеини који садрже хем као простетичну груп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глобин, миоглобин и цитохр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 је група коју чине четири пиролова прстена, а у средини структуре се налази гвожђе или бак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моглоб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95-98%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ји је изграђен из 2 алфа и 2 бета ланц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i="1" lang="sr-R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2-3%) који је изграђен из 2 алфа и 2 делта ланца, а постоји у малој количини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1%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HbF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фетални хемоглобин)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ји је изграђен из 2 алфа и 2 гама ланца 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"/>
              </a:rPr>
              <a:t>1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ликозилирани хемоглобин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је процесом гликозилације хемоглобина, односно везивањем молекула глукозе из крви за хемоглоб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не вредности гликозилираног хемоглобина износе 5-8% од укупне количине хемо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еривати хемоглоб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рбоксихемоглобин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лфхемоглобин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етхемоглоб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моглобинопат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глобинопатије су болести или стања која настају услед недовољне продукције хемоглобина и/или синтезе неадекватног, односно нефункционалног хемо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јчешће хемоглобинопатије су анемија српастих ћелија и таласем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емија српастих ћел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F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не бива у детињству замењен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већ се синтетише дефектни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адржи 2 нормална алфа ланца и два мутирана бета ланца 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лекули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варају агрегате и влакна која деформишу еритроците у ћелије које немају биконкаван, већ српаст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алас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аласемије су болести код којих је синтеза глобина неправил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зултат дефектне синтезе хемоглобина је да су еритроцити смањено пребојени (хипохромни) и смањени (микроцитн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рганизам покушава да компензује анемију повећаном продукцијом еритроцита и бујањем хематопоезног тк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Гвожђ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вожђе је један од најважнијих микроелемената чија је основна улога у нашем организму да у оквиру хемоглобина учествује у транспорту кисеоника од плућа до тк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личина гвожђа у организму је првенствено регулисана процесом апсорпције, а значајно мање његовим излучивање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нос гвожђ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ваког дана би требало унети око 10-2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вожђ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јер се само 5-10% апсорбу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невне потребе износе око 1-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храни је оно присутно везано за хем или као слободно 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(II)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односно редукованом 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e(III)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односно оксидованом обл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еритин и хемосиде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еритин је депо гвожђа који настаје када се за протеин, апоферитин, веже гвожђ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сидерин је нерастворни, агрегирани дериват феритина који се налази у форми гран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драва одрасла особа има депое гвожђа које су јој довољне и за период до 3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рансфе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да је количина гвожђа смањена у организму, ћелије мукозе садрже мање апоферитина, чиме се оно не задржава у ћелијама мукозе цре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вожђе се онда везује за апотрансферин који синтетише јетра, чиме настаје трансферин, транспортни протеин за гвожђ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Фактори који утичу на апсорпцију гвожђ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ћана хематопоеза </a:t>
            </a:r>
            <a:r>
              <a:rPr b="0" lang="sr-R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sr-R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анини, фосфати, фитати и оксалати 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секција желуца и црева 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Губитак гвожђ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купни дневни губитак гвожђа је око 1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Жене имају додатни губитак од око 5-6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вожђа путем менструалног циклуса, док се током трудноће троши још око 1,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нев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редности гвожђ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не вредности гвожђа у плазми износе од 6,5 до 29,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mol/L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 мушкарце и 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5,5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до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28,5 mmol/L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за ж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нижене вредности гвожђа у плазми доводе до анемије, а повишене до оштећења орг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сидер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араметри за испитивање статуса гвожђ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центрација гвожђа у плаз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декси еритроцит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V, MCH, MCH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рфологија еритроц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редности хемо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ансферин у серу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еритин у серу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BC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укупни капацитет везивања гвожђ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17:53:23Z</dcterms:created>
  <dc:creator>М</dc:creator>
  <dc:description/>
  <dc:language>en-US</dc:language>
  <cp:lastModifiedBy>М</cp:lastModifiedBy>
  <dcterms:modified xsi:type="dcterms:W3CDTF">2019-11-14T18:25:01Z</dcterms:modified>
  <cp:revision>16</cp:revision>
  <dc:subject/>
  <dc:title>Slide 1</dc:title>
</cp:coreProperties>
</file>